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B39-939A-4F29-A8CE-6B3E2CA4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F23-C48A-4A89-AEBD-FA88D61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2EC-2CC3-47E8-9BB2-11D36CD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F1E-93EC-4F71-880F-CE61A533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89A-C156-4CD4-9CDF-4B23F763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5281-B7E6-4C52-9ACE-0BDD77E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A56F-FDFF-4D1C-A318-99F5D47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752-DE24-4947-8E93-E4B8AB3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3BC-EB3B-4F22-911B-D1A31D37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1358-5D46-4F8D-B16C-663D6AE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5909-7375-40B5-A813-71AFAD0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189-F684-4AF5-83ED-66C6E7B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400E-B201-4C95-B16F-988B90A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BE3-F49B-40D9-B33A-98836C4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C5A1-252A-4BC0-BE59-E0D4614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C52B-3A43-495E-88CD-BBEE9FC2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505-0DD7-474F-A8AE-3CDFBC6D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8F6-95A0-4A08-9F50-A0AA8E2A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CE6-5797-45B9-99C2-19C4598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E17-3340-4A7C-A201-5C53AA6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E5A-268B-4C48-A563-7B3632DC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890-DB45-4B58-B75E-2140A4C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D73-994F-452B-B4B4-AFE27BF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562-217E-4A5B-B742-CF082F8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930A-CABB-44D4-B2B9-105C4AEB5A1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5ED-5796-49EC-8DDB-8A9B10422F8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&lt;&lt;Title Here&gt;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omputer Services</cp:lastModifiedBy>
  <dcterms:modified xsi:type="dcterms:W3CDTF">2009-07-16T17:48:13Z</dcterms:modified>
  <cp:revision>92</cp:revision>
  <dc:subject/>
  <dc:title>Slide 1</dc:title>
</cp:coreProperties>
</file>